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jpeg" ContentType="image/jpeg"/>
  <Override PartName="/ppt/media/image10.pct" ContentType="image/x-pict"/>
  <Override PartName="/ppt/media/image7.jpeg" ContentType="image/jpe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168F-C00C-4104-9124-661CA7570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10F5-FC4E-47C8-B265-C0C90190B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595D-9ED8-4DEA-A7C2-68E0CDB3D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1D55-8381-4300-8E30-BD058D73D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 shh mutants have some but not all characteristics of holoprosencephaly.  Oep mutants do.  Now know that Nodal is upstream regulator of Shh.  Oep is cofactor required for Nodal signaling and a target for therapeutic treatment of dis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AD9-90D3-4971-B31D-55C0D72A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3C0-832B-4C8E-B3D3-8186A96D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613-591E-4F57-A5C0-CE60D1E2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D36-1D08-4D43-A751-3874EBE5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318-8639-402C-BC72-294290F7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87B-C226-41DC-A46C-C9A42E66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6D4-09D6-4CEC-A00B-37F53D16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F79-757B-4DD0-811F-1784CF02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9FC-F476-499B-9373-7F8104F9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273-A5E8-4EB9-B1EB-7C480C3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D91-7500-462B-B6EA-96B0A009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760-D7EE-45A2-86E2-7391D81A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24A5-71EB-4450-A254-680124C4D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0948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Linking Anim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dels to Human Dis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541008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e University of Oregon, Eugen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90280" y="617220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54936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549360"/>
            <a:ext cx="8686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5480" y="3079800"/>
            <a:ext cx="4039560" cy="320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79800"/>
            <a:ext cx="3098880" cy="3183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77080" y="39006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9080" y="2100240"/>
            <a:ext cx="3719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3360" y="316872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8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aracter 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8120"/>
            <a:ext cx="8305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or disease)  =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holo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40240" y="2476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1680" y="247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2635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ep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1044720"/>
          <a:ext cx="8001000" cy="588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44720"/>
                    <a:ext cx="8001000" cy="5889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41760" y="375588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80880" y="1397160"/>
          <a:ext cx="8382240" cy="3609720"/>
        </p:xfrm>
        <a:graphic>
          <a:graphicData uri="http://schemas.openxmlformats.org/drawingml/2006/table">
            <a:tbl>
              <a:tblPr/>
              <a:tblGrid>
                <a:gridCol w="6793200"/>
                <a:gridCol w="158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0,3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assigned human ortholo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8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1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m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,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ZFIN mutant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Corresponding huma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Drosophil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homologs of these 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6920" y="976320"/>
            <a:ext cx="77702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urier New"/>
                <a:ea typeface="ＭＳ Ｐゴシック"/>
              </a:rPr>
              <a:t>PATO developmen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est curation of zebrafish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nitial curation of phen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200 zebrafish mutations(Tübingen, 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orpholino phenotypes (Univ. of Minnes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400 Medaka mutations (Kyo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ffff"/>
              </a:buClr>
              <a:buFont typeface="Courie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CToL - taxonomy &amp; phyloge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BO-discuss email list for discu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14300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954080"/>
            <a:ext cx="6324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Melissa Haendel -anatomy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ug Howe -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rik Segerdell - P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ierra Taylor - 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295280" y="5410080"/>
            <a:ext cx="6782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niversity of Oregon, Eugene, Ore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61480" y="99072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5493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22:04:12Z</dcterms:created>
  <dc:creator>Erik Segerdell</dc:creator>
  <dc:description/>
  <dc:language>en-US</dc:language>
  <cp:lastModifiedBy>Monte Westerfield</cp:lastModifiedBy>
  <cp:lastPrinted>2005-11-18T02:00:04Z</cp:lastPrinted>
  <dcterms:modified xsi:type="dcterms:W3CDTF">2005-11-19T00:33:27Z</dcterms:modified>
  <cp:revision>88</cp:revision>
  <dc:subject/>
  <dc:title>Ontologies for Gene Expression and Phenotypes</dc:title>
</cp:coreProperties>
</file>